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E3323-156B-41E0-A2A0-D637002A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B6B9A-67AB-4EB8-BE95-46919591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820C8-A8B9-4848-AC59-1217E638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DD1E5-A315-49F3-80CB-B8578880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7C48-F47D-432B-9E26-EF2B9B09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3D38-FFC8-464E-999F-EB893E33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B40F-8BA7-40E9-9E53-D6EE917E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9ACB-0787-4AD8-874E-C9ACA077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E275-97BD-40E9-9893-2215B001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2F11-CB59-4151-9474-83CD8442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F40E-999C-46EF-A4F9-C80328D0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D81E4-9BE2-4A0E-AB57-DBBD2BEA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D4BB-76DE-477E-AA6D-8E13D2FA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ED56-79E1-49BF-B4B7-6008FEDE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13C3-1904-4373-A063-8EA3B300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020A-CEF9-4A7F-B819-2386868E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B8B2-9DCC-4597-87A3-8FF57654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EF932-198C-4108-BE8A-A704CB7E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70A3C-8208-4A03-AE17-5DA92216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068DE-4A1F-44D4-9AE4-C82F6FBB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5F6EC-971C-4905-8B0D-BD8EB085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E9105-8E1C-4CF7-AB06-086C1E1F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46AD5-CD72-49A2-AA71-EC5B889B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63B01-60AF-4021-84E6-32B8BCBB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5C94-3FEC-496B-BD84-9149AAEC48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91DB-C210-46D6-8B83-E8F9F5D503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nglis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st Day Of August!!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en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are homework sto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 new stor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he Lady Or the Ti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ion 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me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O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 smith’s bonus question on our test was did president carter visit karen smith md? Before or after he toured the african american and the hispanic culture fai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haeologists scientists who study the objects belonging to long ago cultures might think of themselfs as puzzle solv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rant:Dominate::________:Instru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ra:Overture::_________:no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swer Ke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r. Smith’s bonus question on our test was, “Did President Carter visit Karen Smith, MD, before or after he toured the African American and the Hispanic culture fairs?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rchaeologists, scientists who study the objects belonging to long-ago cultures might think of themselves as puzzle solver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Lady or The Tiger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ugh choices writing assignment/sh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d story-page 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ion worksheet (if we have tim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05:52:21Z</dcterms:created>
  <dc:creator>Angie</dc:creator>
  <dc:description/>
  <dc:language>en-US</dc:language>
  <cp:lastModifiedBy>student</cp:lastModifiedBy>
  <dcterms:modified xsi:type="dcterms:W3CDTF">2010-08-30T17:21:33Z</dcterms:modified>
  <cp:revision>4</cp:revision>
  <dc:subject/>
  <dc:title>Sept.1 Agenda</dc:title>
</cp:coreProperties>
</file>